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700563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70056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9901-F0C2-431E-A42A-7403E47B3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1A5F-F652-4B11-89CD-1238D19E3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CE06-85A4-45B0-9BED-938EE41E2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ering:  public employees do not relinquish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mendment rights to comment on matters of public interest by virtue of government emplo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ering Balanc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harmony on the work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responsibility require close working relationship/ speech would cause that to deteri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, manner, context of the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in which the dispute a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ree of public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ther speech impeded the employee’s ability to perform his or her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peech which is part of the curriculum in the classroom is of private concern (Pickering doesn’t app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AE5C-64C8-4040-9287-55D5675F4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E27C-A16A-44D4-A082-92A662C56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o Privac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fundamental right.  Government restraint of privacy can only be justified by showing that there is a “compelling state interest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o maintain privacy in what information thy wish to give out t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o perform or not perform certain acts, or subject themselves to certain experi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6A89-0F92-4AA6-BE9D-0A5789824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mendment addresses “privacy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8737-A7C3-4ADE-A417-B3E26C5D1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33F6-A763-472C-BF47-40A0A7EFB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es an employer have to accommodate the religious beliefs of an employe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et Cooper became a Sikh – wore white clothes, and turban as a part of her religious practice.  State law prohibiting the wearing of religious garb at work as a teacher.  Had been warned and continued to violate the law. She was suspended, reported to the SPI and her certificate was revok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DDD9-2B55-410E-89EE-51B5C3C63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84E2-63C4-4B66-A3A9-27BF95951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F01F-9DD7-44B7-8813-CFE0288BB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334A-1B04-4DA7-9669-30381D209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FAD1-94A1-4289-8CF1-B9EAF5979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F908-39A4-411C-B62C-EA61DC28C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58AC-772E-46CE-8AF3-E31BA8952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7937-1450-4167-BA29-191D309C6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494A-6B26-4699-B694-A593A3524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fired for sending a letter to the local newspaper that was critical of school officials in how funds were ra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must show compelling state interest when it is a matter of public conc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is different with administrators than with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 found that it violated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mendment – public conc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e: no harm to operation of school, nor did it affect Teacher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0940-543A-4A15-BDE8-0BD6582CC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2336-A639-4A25-A002-08D69034E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torney (Asst DA) oppsed her transfer to prosecute in another area of law; distributed a questionnaire to other asst DA, soliciting information about morale, etc, terminated for insubordination.  Court upheld her termination – not public concern, but private intere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218E-9C3D-4D68-9555-6A63C859F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ing termination of public employee for exercise  of their free speech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E51E-5A6F-4773-A5D7-560CEACB9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CB2-E505-4AD5-B0A7-FEC8EDDD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EE4-DE30-4C0D-AD1A-3D98B7E7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13C-32F6-4671-B753-92FD5DBB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4AE-AC06-4762-93A7-65D747A2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73D7-BFFB-4FDC-8F2B-E748234A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ADD9-0B4B-4C1B-8E14-A52D3458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F688-B9A2-41FC-BD22-1E589236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FA6F-EB86-45D3-B0D3-12BCC6AB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F6C0-A683-49EE-B66B-7399D516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099F-C614-4586-97F7-D4C24844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9C61-728B-4747-A6D2-07FDEC90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056-EF74-4C33-B184-4144E7FE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1CCB-FC7B-49D6-B7A3-43629490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9D34-ACFB-4F1B-A50B-27AC09E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41D3-FFEF-4281-A5F8-87E598B6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DD85-13C3-48D1-ABC2-4E993249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940D-AE9D-4CDC-B157-1FB5D9F2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38F5-7D07-4F40-9E31-BF3F0090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4973-C49C-4C09-94A8-9A7245EF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01BF-2A93-4F13-93BF-F4E04DBC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B1412-A4A1-41BC-912A-20BD7C6E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5312-C8CA-472B-A493-36971091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C11-6227-4E6F-9ADA-212E82C0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CB7B-A8D6-43D4-B418-7D8B215E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B00B-9302-4631-B2CB-99A93C65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3B13-6942-4FC1-895B-A7BEE537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84C2-1973-4501-92AB-3A48610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4E76-B229-41C2-9D44-984FFAB5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7D63-A06A-4B5D-9852-9020A014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3932-55FD-4BD3-B59D-31D42783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E972D-E3C2-4D95-BB0C-576FCA59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0C3B5-19A6-435D-B91F-1B2BCE22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608A3-0D34-489D-B8F1-7DB5874F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6D2-CA26-49BC-8CD5-9B2A6704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89C3F-C3F2-44EF-A815-7A5E21F1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FC71-3D43-4877-83D0-51262022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F21E5-09FB-4E31-BB7E-F9A90BCF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E99C-6E9A-4B70-97B7-5D4E4915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0586-328D-46C7-97AD-3A4AB7F8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4328-9F31-4E59-8763-9E3F08C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E14D-A1BD-40F2-9A19-E31E32DB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80105-27B7-4B75-B494-6A2558E2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905E4-518A-4E04-9E38-9687695E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CE40D-FE04-4CD9-9DCA-5CCDF6C1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7A9-11A3-4F20-AC2F-1F842D1D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5E830-4696-4E4E-9D6E-A618848C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FFCB3-5357-4EAA-90CF-D8612FD5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E1CA-9E8B-4524-9536-4AE0464A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A4FFF-A903-4CA6-9D97-393E73C2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03454-BFBF-4DEB-8907-7591A5D8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C317F-9C22-4964-93E4-DFF542E6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3CA72-F1BE-42F1-8566-77290375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E543-CBEC-4CA2-9B17-86C36C1E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51F4D-2677-4B07-A428-D06582B3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1DB60-11AF-4328-A91F-F6C25920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FD6-BF49-465C-82C2-273F9603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40811-4494-4ADF-8707-C9E3D190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F8C8C-D28A-4871-BD4F-3BCD40B5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7E618-7CFA-46CC-A686-CCECCB7C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0EFA-5F34-4BC9-A091-E9BB30F6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3ACF9-89EA-46C7-B4DE-5E42852C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85B76-810C-4B5B-82A9-5BA11717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82A35-7303-4013-8F1E-CB951234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DA4D-18C1-4B55-A1CB-D3544E51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5851B-1249-4350-99C7-AA0DDFA0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02C2-9E99-430F-9C0C-2D12BBAA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563-2DBD-4324-8DEB-DAD4614F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B9652-7ED3-4D5F-AC0D-A889AC39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EF2AA-6CCF-47AD-853A-91239AEB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9B10F-F1D8-4F64-B5CC-57F1F6A1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68290-E920-4FA5-90DC-C105AA0C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164A2-6ED9-4A7A-B2FB-B1AE0657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919CB-35FB-4E96-81FC-E9FDB86E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78ED0-F232-43D8-9718-2480BCED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EE668-6034-47F2-A1DC-37C23069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3645-9C14-4E30-A116-C9DBBCD8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ED922-AEDC-4FE9-8200-1A2CF8BB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60F-AEA8-47C7-9AA9-0AEFD3E5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58004-B537-4072-844D-D2A18632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C4BFF-98FC-43DF-B74F-4EE5885B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BADBE-9344-4A3C-9CCE-57764135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16C7F-D162-4B27-AF19-A04AD426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F31A8-EFE4-4973-8C10-9F808907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D7A-AEBA-4BAC-912A-62D3017E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8749-1FAA-4C6E-8588-B1F8A6569B4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A683-899D-4BEB-915A-E7A5782D69D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D084-3477-4A42-8A51-8DAC63ADCED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6838-C23C-49B6-83BA-38DEB994C3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1C9F-1890-4A6D-A167-A55E58F5CE9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089A-B964-4EFB-8F2F-740AE2CB317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C1F0-9A63-4603-9733-D5D82F1E5AC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sba.org/MainMenu/SchoolLaw/Issues/Employment/RecentCases/Weingarten-v-Board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eacher Rights and Freedo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295280" y="1676520"/>
            <a:ext cx="7499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ech, Privacy, Religion, Self-Incrimin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562360" y="1066680"/>
            <a:ext cx="3066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72314"/>
                </a:solidFill>
                <a:latin typeface="Gill Sans MT"/>
              </a:rPr>
              <a:t>Private Communication v  Public Communication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77777"/>
                </a:solidFill>
                <a:latin typeface="Gill Sans MT"/>
              </a:rPr>
              <a:t>Givhan v. Western Line School Dist.       SC 197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Picture 4" descr="C:\Users\Debra\Pictures\Microsoft Clip Organizer\j0178834.jpg"/>
          <p:cNvPicPr/>
          <p:nvPr/>
        </p:nvPicPr>
        <p:blipFill>
          <a:blip r:embed="rId1"/>
          <a:stretch/>
        </p:blipFill>
        <p:spPr>
          <a:xfrm>
            <a:off x="838080" y="1143000"/>
            <a:ext cx="4419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a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toman v. Collet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East Hartford Ed. Assoc. v. Brd of 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eemuller v. Fairfax County Sch. Br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nsba.org/MainMenu/SchoolLaw/Issues/Employment/RecentCases/Weingarten-v-Board.asp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 be the Jud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47960" y="12952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r district is cutting the budget.  A teacher writes a letter to the editor of the newspaper, which contains factually incorrect statements about extra-curricular expenditures. His principal knows it is factually incorrect. As a result, parents call the principal, angry about the “waste” and “abuse” of the extracurricular program. The principal issues the teacher a written repriman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4" descr="C:\Documents and Settings\Jim\Local Settings\Temporary Internet Files\Content.IE5\TN1RCG14\MPj04225810000[1].jpg"/>
          <p:cNvPicPr/>
          <p:nvPr/>
        </p:nvPicPr>
        <p:blipFill>
          <a:blip r:embed="rId1"/>
          <a:stretch/>
        </p:blipFill>
        <p:spPr>
          <a:xfrm>
            <a:off x="1295280" y="1600200"/>
            <a:ext cx="3353040" cy="4572000"/>
          </a:xfrm>
          <a:prstGeom prst="rect">
            <a:avLst/>
          </a:prstGeom>
          <a:ln w="0">
            <a:noFill/>
          </a:ln>
        </p:spPr>
      </p:pic>
      <p:pic>
        <p:nvPicPr>
          <p:cNvPr id="361" name="~PP3886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91320" y="19810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72314"/>
                </a:solidFill>
                <a:latin typeface="Gill Sans MT"/>
              </a:rPr>
              <a:t>Right to Privacy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3" name="Picture Placeholder 5" descr="j0409717.jpg"/>
          <p:cNvPicPr/>
          <p:nvPr/>
        </p:nvPicPr>
        <p:blipFill>
          <a:blip r:embed="rId1"/>
          <a:stretch/>
        </p:blipFill>
        <p:spPr>
          <a:xfrm>
            <a:off x="835200" y="1139760"/>
            <a:ext cx="4431960" cy="35244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Gill Sans MT"/>
              </a:rPr>
              <a:t>Privacy:  A Fundamental Righ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vac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acher’s Mental and Physical Examin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s there a rational nexus?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rug Tes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Under what circumstances can teachers be tested for drugs?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 of Teacher Workpla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When can a teachers work place be searched?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aury v. Smi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earch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bable cause in the legal sense not required of work place search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arches OK so long as they are undertaken with some reasonable basis to further the efficient and competent management of the distri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a legal expectation of privacy with personal items.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herefore a warrant is needed for such a search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reedom of Relig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600" y="1523880"/>
            <a:ext cx="38991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vil Rights Ac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ither inhibit nor promote relig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gious gar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ooper  v. Eugene Sch. Dis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C Oregon 198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ttp://www.sikhnet.com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lig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ligious freedom has limi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achers must teach approved curricul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achers can request/be granted accommodations for religious holida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ules/standards must meet Lemon v Kurtzman te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ligious garb may or may not be seen as promoting one religion over ano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rivilege against self-incrimin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Beilan v. Philadelphia Sch. Dist. SC 195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ight itself does not allow avoidance of questions regarding professional competency or fitness to tea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voking 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amendment in criminal proceeding not necessarily cause for dismiss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chool board could dismiss for insubordination if teacher fails to answer questions about fitness to teach/competenc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orality” or “Fitness to Teach” based on outside activiti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18960" y="1980720"/>
            <a:ext cx="7499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tional nexus between the conduct in question and professional du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chool Board must establish that the outside activity has a detrimental impact on the teacher’s ability to te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:  Hoagland v. Mount Vernon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 198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ithout fear of discipline or termination as a principal, could you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19320" y="14475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 letter to the local paper criticizing Barack Obama’s presidenc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 guest column in the school paper citing poor leadership of the superintend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ive an on-camera interview criticizing the reduction of school libraria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peak at a rally to legalize marijuan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.What if you were a teacher?  Would that change your freedom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agland Factors: Propriety of Discharge for Outside Conduct Determined By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…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ge and maturity of the stud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kelihood that conduct will adversely affect students of other tea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gree of anticipated advers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ximity or remoteness in time of the condu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tenuating of aggravating circumstan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kelihood conduct will be repea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tive underlying the condu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illing effect” on rights of teachers involved or other tea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72314"/>
                </a:solidFill>
                <a:latin typeface="Gill Sans MT"/>
              </a:rPr>
              <a:t>Teacher Rights and Freedoms</a:t>
            </a:r>
            <a:endParaRPr b="0" lang="en-US" sz="4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eedo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verned b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rrant-less sear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e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tit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utory Relationshi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09480" indent="-282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ederal, State, Local Law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llective Bargai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72314"/>
                </a:solidFill>
                <a:latin typeface="Gill Sans MT"/>
              </a:rPr>
              <a:t>Teacher Rights and Freedoms</a:t>
            </a:r>
            <a:endParaRPr b="0" lang="en-US" sz="4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ademic Freed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tent of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dely misunderstood and greatly us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ore explicit in higher ed contracts, statut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 K-12, teacher freedoms not explicitly defined beyond the Bill of Righ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eachers must prove “pall of orthodoxy”, or overbearing state interfere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2000"/>
          </a:bodyPr>
          <a:p>
            <a:pPr marL="360360" indent="-25092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vernment can restrict when necessary to fulfill responsibilities to operate effectively and efficiently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0360" indent="-25092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ut cannot restrain free speech in an “open debate”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0360" indent="-25092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Public officials  are not constitutionally required to allow public dissent by their employees if it interferes with governmental oper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ust Bala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ech is a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mendment Righ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ublic concern v Personal inter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mployee’s interest against district inter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6" descr="C:\Users\Debra\Pictures\Microsoft Clip Organizer\j0300575.gif"/>
          <p:cNvPicPr/>
          <p:nvPr/>
        </p:nvPicPr>
        <p:blipFill>
          <a:blip r:embed="rId1"/>
          <a:stretch/>
        </p:blipFill>
        <p:spPr>
          <a:xfrm>
            <a:off x="4724280" y="3352680"/>
            <a:ext cx="3124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572314"/>
                </a:solidFill>
                <a:latin typeface="Gill Sans MT"/>
              </a:rPr>
              <a:t>Pickering v. Bd. Of Ed.     SC 1968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irst 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 Will the statement create problems with maintaining rapport with supervisors or will it create discord among co-work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n B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“Government employer’s need for political allegiance from it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olicy making employees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weighs the employee’s freedom of expression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exible rule that balances public interest against private inter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572314"/>
                </a:solidFill>
                <a:latin typeface="Gill Sans MT"/>
              </a:rPr>
              <a:t>Mt. Healthy v. Doyle     SC 1977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What prevents an employee from using the exercise of free speech as a pretext to avoid termination from other caus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nduct must be protected and must have been a motivating factor in dismissal.  Conclusion must be that the school board would have reached the same decision in the absence of the misconduct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nick v Meyers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C 198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s the speech a matter of public concer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Yes: Apply Pick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o: Pickering does not app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ill Sans MT"/>
              </a:rPr>
              <a:t>What is the definition of  “a matter of public concern”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2" descr="C:\Users\Debra\Pictures\Microsoft Clip Organizer\j0408892.jpg"/>
          <p:cNvPicPr/>
          <p:nvPr/>
        </p:nvPicPr>
        <p:blipFill>
          <a:blip r:embed="rId1"/>
          <a:stretch/>
        </p:blipFill>
        <p:spPr>
          <a:xfrm>
            <a:off x="5549760" y="1523880"/>
            <a:ext cx="31114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ech Test of Public Employe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rden of proof rests on the state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ch can be denied if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nial necessary to prevent “substantial interfe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w standard of proof when public speech on private interest results in adverse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828440" y="1780920"/>
            <a:ext cx="1915920" cy="3219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C:\Users\Debra\Pictures\Microsoft Clip Organizer\j0439239.jpg"/>
          <p:cNvPicPr/>
          <p:nvPr/>
        </p:nvPicPr>
        <p:blipFill>
          <a:blip r:embed="rId2"/>
          <a:stretch/>
        </p:blipFill>
        <p:spPr>
          <a:xfrm>
            <a:off x="5486400" y="16765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23:38:54Z</dcterms:created>
  <dc:creator>Administration</dc:creator>
  <dc:description/>
  <dc:language>en-US</dc:language>
  <cp:lastModifiedBy>Jim Howard</cp:lastModifiedBy>
  <dcterms:modified xsi:type="dcterms:W3CDTF">2010-03-24T22:07:49Z</dcterms:modified>
  <cp:revision>32</cp:revision>
  <dc:subject/>
  <dc:title>PowerPoint Presentation</dc:title>
</cp:coreProperties>
</file>